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43B88B-1487-4D57-B715-54443F686C5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09A12E-752C-4269-8B6B-D9B3D8426B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10E002-179C-4E82-A413-E2EC575929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EB672B-14A0-41E5-B959-5AA417D02A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3C01CA-5917-4B3B-88EA-29EE0E4F98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D80AAB-23C1-4BD4-9B44-5B46A5A170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B96CAD-7F12-49AE-945F-32F994BC5A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68904A-310A-495F-B27A-A06A30CCA8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960D4E-3ABC-4189-B39A-0F5A723289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42ECC5-CDE0-44E8-8948-12D64D8CCD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2D0B27-1137-453E-A02C-95D98BBD47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C9239B-B609-4E43-830B-FE53DA39CB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862E23-4658-4A86-A92D-2F87EBB5A2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73B92B-EFF2-4273-AD44-22CEDEA4DB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52ADFC-B813-4121-80CA-3DE76D78FD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C77A39-D403-48D2-BC91-A61C582F0F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B7E3C0-0442-4AC0-8837-C3005F3480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A47F14-B8CC-4933-953A-7196EC3B85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899694-645A-41CB-B232-DD2156B72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A2B133-ED67-4287-81F4-A13DD4263D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9CE-6A9B-48C5-A9C1-8313AC23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E10-C6AD-4171-8011-88F8435C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713-156A-4FC7-88D8-E43CE1AE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865-3640-4A30-AB9C-8929F39C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D4DA-5B46-45F5-8FE8-599467D6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EAD3-8614-4F3D-854E-D6C748E0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1C29-9888-44E0-8CE0-E2756F63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2142-E530-422F-885F-79BF2724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E216-E1A0-464D-9786-14BF0495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C4EC-A9ED-432A-A38F-42CDDB24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00F7-EA35-48E7-A936-19A8F32E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CD6-2366-403B-B0D7-F66EC917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4156-98BD-4CA1-A0CC-71F0FB4F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C754-D81B-4456-852A-249C340F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2868-AA89-42E4-9506-BCD7D788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7832-0B18-4202-A66D-891EF8A9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C352-6267-4F34-AEED-55A85F17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D10-897F-48BF-B8FE-1B76A169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750-79EA-473F-846B-F33990D9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8F1-9DE1-4B6E-9111-94F27E22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EAE7-01AF-48AE-B3F4-242959F1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71B-11C5-4D1C-B7A3-188484CA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E9D-FCED-4BE1-8354-89B084A9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0DA-0C92-49D6-AC6F-C27E134B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48FB-E989-4D22-B3C4-A0AC2B331FA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3B69-50D1-40E4-A364-E1D850BF28F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Legislative Branch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ll - 201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Content Placeholder 7" descr="Screen shot 2012-10-11 at 1.46.55 PM.png"/>
          <p:cNvPicPr/>
          <p:nvPr/>
        </p:nvPicPr>
        <p:blipFill>
          <a:blip r:embed="rId1"/>
          <a:srcRect l="0" t="-23862" r="0" b="-23862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Content Placeholder 8" descr="Screen shot 2012-10-11 at 1.47.46 PM.png"/>
          <p:cNvPicPr/>
          <p:nvPr/>
        </p:nvPicPr>
        <p:blipFill>
          <a:blip r:embed="rId2"/>
          <a:srcRect l="0" t="-25501" r="0" b="-25501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Sess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ach Congress meets for </a:t>
            </a:r>
            <a:r>
              <a:rPr b="1" lang="en-US" sz="3200" spc="-1" strike="noStrike" u="sng">
                <a:solidFill>
                  <a:srgbClr val="cc0099"/>
                </a:solidFill>
                <a:uFillTx/>
                <a:latin typeface="Verdana"/>
              </a:rPr>
              <a:t>two year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es are divided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wo sess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ssion is in odd numbered years following elec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ssion is in even, election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es are numbered – the Congress elected in 2008 is the 1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gress and officially began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ssion Tuesday, January 6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number of the current Congres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ender and Ethnicity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les: 427   House: 347; Senate: 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s: 108   House: 88; Senate: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rican/Americans: 4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46;  Senate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panics: 3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34;  Senate: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ian: 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13;  Senate: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verage Ag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use of Representatives:  5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nate:  6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lig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4" name="Content Placeholder 3" descr="Screen Shot 2016-01-12 at 1.08.20 PM.png"/>
          <p:cNvPicPr/>
          <p:nvPr/>
        </p:nvPicPr>
        <p:blipFill>
          <a:blip r:embed="rId1"/>
          <a:srcRect l="-1433" t="0" r="-1433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35 Me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l Qualific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leas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years o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itizen for at leas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7 yea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resident of the 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characteristics of memb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have been and are white m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ts of Lawy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ence in government (State or local leve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atives serve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Verdana"/>
              </a:rPr>
              <a:t>2 year term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435 members must be reelected every 2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both houses, the political party that contro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more than half of the seats is known as the majority par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ther is the minority par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ining control of a house of Congress has many advantages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380880" y="2286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ty Makeup of Hou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" descr="Screen Shot 2016-01-12 at 12.58.33 PM.png"/>
          <p:cNvPicPr/>
          <p:nvPr/>
        </p:nvPicPr>
        <p:blipFill>
          <a:blip r:embed="rId1"/>
          <a:stretch/>
        </p:blipFill>
        <p:spPr>
          <a:xfrm>
            <a:off x="1165320" y="1295280"/>
            <a:ext cx="63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Screen Shot 2016-01-12 at 12.58.19 PM.png"/>
          <p:cNvPicPr/>
          <p:nvPr/>
        </p:nvPicPr>
        <p:blipFill>
          <a:blip r:embed="rId1"/>
          <a:stretch/>
        </p:blipFill>
        <p:spPr>
          <a:xfrm>
            <a:off x="762120" y="1981080"/>
            <a:ext cx="7111800" cy="29718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53352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ty Makeup of Senat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jority party provides the leadership of that Ho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 of Represent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der 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peaker of the Hou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hosen from the majority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er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hird in lin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the Presiden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er and majority party has significant power over the legislative proc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aker for the 1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gress is 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Paul Ry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fter a vote 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rk Twai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you were an idiot. And suppose you were a member of Congress.  But I repeat myself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at is expressed in this quo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y are members of Congress subject to comments by people such as Jimmy Fallon, Jay Leno, Jon Stewart, etc.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adership 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Leade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leader of the majority party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floo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Kevin McCarthy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(R-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Whi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assists the speaker and majority leader in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pping u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pport for legis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teve Scalise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 (R-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adership 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ity Leader – leader of the minority party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floo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Nancy Pelosi (D-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ity Whip – assists the minority lead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Steny Hoyer (D-M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905120"/>
            <a:ext cx="871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ry state is guaranteed at lea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 deleg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the Ho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representatives is determin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pulation is counted every 10 years by the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cens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resentatives are elect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stric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in states with more than 1 representativ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520" y="5638680"/>
            <a:ext cx="54864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eorgia"/>
              </a:rPr>
              <a:t>Representation Changes after the 2000 Censu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2" name="Picture Placeholder 2" descr="Screen Shot 2015-04-21 at 10.37.30 AM.png"/>
          <p:cNvPicPr/>
          <p:nvPr/>
        </p:nvPicPr>
        <p:blipFill>
          <a:blip r:embed="rId1"/>
          <a:srcRect l="326" t="0" r="682" b="0"/>
          <a:stretch/>
        </p:blipFill>
        <p:spPr>
          <a:xfrm>
            <a:off x="932040" y="612720"/>
            <a:ext cx="7181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440" y="4659480"/>
            <a:ext cx="548640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Seats gained/lost after 2010 census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4" name="Picture Placeholder 4" descr="Screen Shot 2015-04-21 at 10.38.06 AM.png"/>
          <p:cNvPicPr/>
          <p:nvPr/>
        </p:nvPicPr>
        <p:blipFill>
          <a:blip r:embed="rId1"/>
          <a:srcRect l="-316" t="0" r="-154" b="0"/>
          <a:stretch/>
        </p:blipFill>
        <p:spPr>
          <a:xfrm>
            <a:off x="831960" y="612720"/>
            <a:ext cx="7394400" cy="41148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Congressional Map from 2003-201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7" name="Content Placeholder 3" descr="Screen shot 2012-10-11 at 9.19.54 AM.png"/>
          <p:cNvPicPr/>
          <p:nvPr/>
        </p:nvPicPr>
        <p:blipFill>
          <a:blip r:embed="rId1"/>
          <a:srcRect l="-84083" t="0" r="-84083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Congressional Map from 2012 - 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9" name="Content Placeholder 3" descr="Screen shot 2012-10-11 at 9.28.52 AM.png"/>
          <p:cNvPicPr/>
          <p:nvPr/>
        </p:nvPicPr>
        <p:blipFill>
          <a:blip r:embed="rId1"/>
          <a:srcRect l="-86107" t="0" r="-86107" b="0"/>
          <a:stretch/>
        </p:blipFill>
        <p:spPr>
          <a:xfrm>
            <a:off x="912960" y="1905120"/>
            <a:ext cx="8110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ional districts are drawn by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state legislat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pportionment occurs when reps are added/tak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cts are NOT to be drawn in a way that is advantageous for a certain group (political party,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rrymandering – drawing an odd-shaped district for political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st Gerrymandered Congressional Distri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enat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ear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 for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at least 9 yea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Resident of the st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characteristic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te, ma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wy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ence in government (state, House of Reps., etc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enat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s of Off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ors ser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erms that last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Verdana"/>
              </a:rPr>
              <a:t>6 yea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ximately 1/3 of the Senate is up for reelection every 2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2 Senators elected from each state for a total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mportance of Congre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amers believed Congress would be immensely importa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st article (and longest) of the Constitution is dedicated to the Legislative body of the government of the U.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Senato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7" name="Content Placeholder 7" descr="Screen shot 2012-10-11 at 10.37.16 AM.png"/>
          <p:cNvPicPr/>
          <p:nvPr/>
        </p:nvPicPr>
        <p:blipFill>
          <a:blip r:embed="rId1"/>
          <a:srcRect l="-10156" t="0" r="-10156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pic>
        <p:nvPicPr>
          <p:cNvPr id="288" name="Content Placeholder 6" descr="Screen shot 2012-10-11 at 10.32.48 AM.png"/>
          <p:cNvPicPr/>
          <p:nvPr/>
        </p:nvPicPr>
        <p:blipFill>
          <a:blip r:embed="rId2"/>
          <a:srcRect l="-7748" t="0" r="-7748" b="0"/>
          <a:stretch/>
        </p:blipFill>
        <p:spPr>
          <a:xfrm>
            <a:off x="5043600" y="19051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19224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</a:t>
            </a:r>
            <a:r>
              <a:rPr b="0" lang="ja-JP" sz="4400" spc="-1" strike="noStrike">
                <a:solidFill>
                  <a:srgbClr val="003366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 Senato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chard Durbin - (D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ed to the Senate in 1996; from Spring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 for election in 20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led Senate seat of mentor, Sen. Paul Sim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176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k Kirk - (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ed in a special election held in to fill the term of Roland Burris; from Champa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yer by prof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the House from 2001-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nate Leade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ial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President of the Senate is the Vice President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United St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votes in case of a t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is present in the Sen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urrently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Joe Bi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nate Leadership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y-to-day leader of the Senate is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President Pro Tempo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rmally the most senior member of the majority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have as much power as the Speak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ly,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Orrin Hatch </a:t>
            </a:r>
            <a:r>
              <a:rPr b="0" lang="en-US" sz="2000" spc="-1" strike="noStrike">
                <a:solidFill>
                  <a:srgbClr val="c00000"/>
                </a:solidFill>
                <a:latin typeface="Verdana"/>
              </a:rPr>
              <a:t>(R-P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ity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Mitch McConnell (R-K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Majority Leader (W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John Cornyn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R-T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ority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Harry Reid (D-NV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Minority Leader (W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Dick Durbin (D-I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423720"/>
            <a:ext cx="816300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man Aaron Schock</a:t>
            </a:r>
            <a:br>
              <a:rPr sz="44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(Resigned/Special Election to be held)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7" name="Content Placeholder 6" descr="Screen shot 2012-10-11 at 8.56.30 AM.png"/>
          <p:cNvPicPr/>
          <p:nvPr/>
        </p:nvPicPr>
        <p:blipFill>
          <a:blip r:embed="rId1"/>
          <a:srcRect l="-501" t="0" r="-501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pic>
        <p:nvPicPr>
          <p:cNvPr id="228" name="Content Placeholder 7" descr="Screen shot 2012-10-11 at 9.00.19 AM.png"/>
          <p:cNvPicPr/>
          <p:nvPr/>
        </p:nvPicPr>
        <p:blipFill>
          <a:blip r:embed="rId2"/>
          <a:srcRect l="0" t="-11615" r="0" b="-11615"/>
          <a:stretch/>
        </p:blipFill>
        <p:spPr>
          <a:xfrm>
            <a:off x="5043600" y="19051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04920" y="838080"/>
            <a:ext cx="524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 following questions on a piece of paper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371600" y="6019920"/>
            <a:ext cx="65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you have completed the Preview, share your responses with a partner or with the cla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04920" y="88920"/>
            <a:ext cx="746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C2D1-9028-4786-A349-4EC213ECCB7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0" y="54468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380880" y="838080"/>
            <a:ext cx="74678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photograph and biography, what facts do you know about Congressman Schock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ings about Aaron Schock do you think are typical for a member of Congress? What things might be atypic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spects of his background do you think would help make Aaron Schock an effective legislator? Expla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y will you and some of your paren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ble to vote for Aaron Schock in this elec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aron Scho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7" name="Content Placeholder 3" descr="Screen shot 2012-10-11 at 9.06.06 AM.png"/>
          <p:cNvPicPr/>
          <p:nvPr/>
        </p:nvPicPr>
        <p:blipFill>
          <a:blip r:embed="rId1"/>
          <a:srcRect l="-59538" t="0" r="-59538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9152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man Darin Lahood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9" name="Content Placeholder 2" descr="Screen Shot 2016-01-12 at 12.30.24 PM.png"/>
          <p:cNvPicPr/>
          <p:nvPr/>
        </p:nvPicPr>
        <p:blipFill>
          <a:blip r:embed="rId1"/>
          <a:srcRect l="6367" t="0" r="6367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idence:  Dunlap, 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rital Status:  Marri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ious Occupation:  Ill. State Senate, Tazew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’s Attorney’s Office, Lawyer (Miller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ll, and Trigg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ious Political:  Illinois State Sen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ducation:  Academy/Spalding High School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ras College, John Marshall Law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thdate:  8/12/1928; Peoria, 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ligion:  Roman Cathol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80640" y="609120"/>
            <a:ext cx="81630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hat makes for an effective    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  legislator?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828800"/>
            <a:ext cx="8110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al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Bi-cameral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eaning </a:t>
            </a:r>
            <a:r>
              <a:rPr b="1" lang="en-US" sz="2800" spc="-1" strike="noStrike">
                <a:solidFill>
                  <a:srgbClr val="9a0000"/>
                </a:solidFill>
                <a:latin typeface="Verdana"/>
              </a:rPr>
              <a:t>two hou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 of Representatives – lower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st to the people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 representation based on pop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 – upper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al state representation (2 per sta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d by </a:t>
            </a: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Article I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Co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ult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reat Compromi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Connecticut Comprom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J plan favored equal representation for st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ginia plan favored larger states with higher popul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8:41:23Z</dcterms:created>
  <dc:creator>Stephanie Fogarty</dc:creator>
  <dc:description/>
  <dc:language>en-US</dc:language>
  <cp:lastModifiedBy>olsonl olson</cp:lastModifiedBy>
  <cp:lastPrinted>2012-10-11T18:42:25Z</cp:lastPrinted>
  <dcterms:modified xsi:type="dcterms:W3CDTF">2016-09-21T15:48:59Z</dcterms:modified>
  <cp:revision>113</cp:revision>
  <dc:subject/>
  <dc:title>The Legislative Branch</dc:title>
</cp:coreProperties>
</file>